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pct" ContentType="image/x-pict"/>
  <Override PartName="/ppt/media/image14.pct" ContentType="image/x-pict"/>
  <Override PartName="/ppt/media/image2.jpeg" ContentType="image/jpeg"/>
  <Override PartName="/ppt/media/image3.jpeg" ContentType="image/jpeg"/>
  <Override PartName="/ppt/media/image5.jpeg" ContentType="image/jpeg"/>
  <Override PartName="/ppt/media/image12.pct" ContentType="image/x-pict"/>
  <Override PartName="/ppt/media/image6.png" ContentType="image/png"/>
  <Override PartName="/ppt/media/image1.jpeg" ContentType="image/jpeg"/>
  <Override PartName="/ppt/media/image7.png" ContentType="image/png"/>
  <Override PartName="/ppt/media/image8.pct" ContentType="image/x-pict"/>
  <Override PartName="/ppt/media/image4.jpeg" ContentType="image/jpeg"/>
  <Override PartName="/ppt/media/image13.pct" ContentType="image/x-pict"/>
  <Override PartName="/ppt/media/image9.png" ContentType="image/png"/>
  <Override PartName="/ppt/media/image11.pct" ContentType="image/x-pict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B5F-2A1A-4512-B47F-49BBD205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CE10-6FD7-43C9-A34F-1E7DFC46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D0EBA-0288-4A11-9393-A81C7517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10B0D-C141-43D0-A491-E7F83EA5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37584-F096-4238-87D8-00A21870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02FA5-23C9-48A0-8EB7-69895E67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16AC4-2FCF-4DBC-9C03-16D89971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D9AD0-A8DE-4998-BA75-A1549ACE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B6816-8AC6-4AD2-AF42-6DD728A0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F2131-FFE9-4823-8D04-78525752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F67F0-51C5-4452-B041-F6C86544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B461C-0E92-42C6-B9C0-9353F123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B4D9-5203-4DD5-8CC7-2C2C255B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BC75D-2AB6-4AD8-84C3-038CFE6F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A5509-E9B8-4848-9B37-8A34779F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199D4-6A6C-4E95-94F3-39D51023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89FD6-F1C9-4F1A-A803-D5F31965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E05E9-0398-4632-ACB6-4C2F647C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A6F86-73A9-4E85-877E-FFFFF328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C6535-E618-4CA5-B4E3-AA90B3A3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72C33-E771-40C1-85B1-7251486A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95177-68A1-44E6-B565-C2B7D6BA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4FC42-7382-419F-B76E-F3C5EA3C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AE83-7AEA-4C8D-957C-ED650DF5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BB816-6357-4425-B20C-98973EE2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38649-E6C6-4969-97D7-568C9921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83D31-ACD9-4C42-BCD7-D8F56595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DF25A-DBEA-4899-8C2E-33FD4AC7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30C4E-D0CE-4BE3-AB89-669CE001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DB08F-2091-4832-BE8F-7A03DFA9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2CC62-43F7-4C5E-B895-EC849201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F8657-7768-4A27-90C2-B1F61293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66F2A-4D03-4EF9-8FA3-A0E209B7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D86F4-EFA2-4F37-8724-B3E8DDBD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8D0A-4207-4BEB-BDBB-43AC2FF0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CA8C9-D081-4A8F-9799-1CC9264A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F32A1-67BD-46B7-92D3-5ECF49FA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F0F9A-11C1-455A-B1C5-D1F71A63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4A74D-F701-4E36-8678-0642591F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B4360-9DE5-4AE1-AC52-D69CE638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A0539-790E-474B-841F-7871B213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5C162-6A84-4E6E-9149-FBAB04B0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288C4-2490-4A2A-888C-014C7337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4BF8B-BBA6-46D8-B777-4B4A6B4E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8B303-28BE-4603-AD87-8884B217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15FB-5503-4B52-96B6-95B94871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DE35A-5756-4288-B283-B17157D4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5EBCC-2B60-403D-B385-CD743C8B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A4F0C-BF66-4CB6-B663-0C7C5C2B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50963-0E81-4B6E-AA98-0F971C77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96E1C-0A8A-42CA-8A8B-F6B8A882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2F3DFD-7CE6-4186-A96B-A4B0FA71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4F707A-E016-4434-9A5B-5D756C8D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FCB03-059C-44E0-A46F-F0821592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ED461B-FA4D-4608-BBC3-F886FD75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31692-5BCB-40DF-8BA4-7AFE7677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4B21-9790-47AB-A038-3D6758C5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DDAAC-2C80-413A-8CE8-C30C6257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7A22F7-75FB-479A-AD33-01F0CC68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F7785-14E8-4C1F-8CA2-93C0387E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B78745-2E86-440F-884A-1F841B3F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508B5-CEE9-405F-B048-55489A95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D921F-2989-4860-9766-D66254E2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47ACBE-99DD-46EF-BD49-41AB854F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93481C-195C-48F0-9493-6A7B45F3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8E9784-B56F-4EF4-9857-95F75699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46BF92-437A-4634-A7B4-5BD51D4E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FB3A-5AD9-41F4-8400-B52A8C71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94E50E-CF33-4B0D-A474-0ADB3257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DF6A3A-F922-46B0-94E2-629AFB3A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738186-99AD-4C76-AE61-FC049EF4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EB84CC-D953-425F-8D57-50EB6FAA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DE0B08-BCDE-4F74-BE2C-29FE5C82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EF6C3F-C3AC-4AF3-A253-C92FE8A2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AB08D0-2148-42D7-9338-EF4E58CF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026D47-6787-4BC7-9C26-A5B8A8AC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796BB7-4318-46F3-8CB4-B0A39DB5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617792-6A44-4273-A719-A8C0D782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2ABE-55A4-4E6C-9CE1-2AC10F36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CF086F-003F-49BE-B8FF-7BAA33C3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D216DA-8666-4F67-816C-AB90FEF5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8E975D-6D7E-4A97-9F52-7CD10792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BFABAA-8D25-4959-95E6-9F6B3AD7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F04230-BE3E-4945-98C1-D026B5E2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CF75C0-E13E-4B07-B7D7-EDBC3F51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504CC5-25EF-4C36-8908-52A994E6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2E2022-4BE6-4157-A66D-378E121C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992173-8126-4582-9BE8-F79583F0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4E0BE9-A43B-4AAE-881F-B05D9F46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A12B-6585-46A8-BF31-E5374B14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BE666D-7C7A-4758-9305-A20E327A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CF0065-AF8D-4135-8F87-6F8562A1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AF7924-5A6D-49CF-80C7-66D55782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875DAA-0187-48E3-A069-8AB0C88B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B598AF-F126-4A36-AEA8-7DE04616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CBFE84-2513-46EC-89DF-758C117D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6A557C-2782-4A36-8817-350E1426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9DD623-BAA4-4307-971C-7F54DC7E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C0669C-5440-47E1-B75E-C665F602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03B5AB-32A5-42FE-95B9-069A6738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B76C-5E80-42B2-8243-C1AE78AA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B4973C-0988-4850-A7D6-22F90DE2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A1CDA2-695F-4CE3-84B1-D9AFDC4B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77AB4C-D60D-4EA1-BA04-F4B95DCC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55C0-79B2-4EA4-BA79-78822E76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03F3-2998-4E68-B51E-4DF831D5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EC19-2089-4D8C-B629-D16C2373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7551-31C0-4610-A40C-9109E218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8FA3-AABF-4E9F-98AF-0006EF2D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2BF6-C55D-42C9-94D9-C4DD91C4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8AAE8-BBB3-4D34-B2ED-7E5F72F3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61C7C-006B-489E-A366-81BF62AC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24AF2-DF6E-4251-9BFD-4BC95518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34EF0-8EBE-48F0-A3CD-E7A2FB44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240BC-D3FE-4AA0-AB58-116F0AB1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B068-9A52-481D-941E-D723EB21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0D8E8-1447-42C4-B40A-5CB71615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CCCD6-F9DE-41D9-93B7-AEF98186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B8815-CC86-4EC8-AC2A-A3191780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1C32E-182C-4BB7-AA92-02C2D555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0E481-890B-421A-8C74-ADDE70C0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6E4DF-9E38-43AF-BA56-FF76E201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E4E73-7962-4BB6-96DE-073E71C6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34892-7223-45A1-9981-E66F941A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0B8AC-49C8-4777-A8D2-AEFE7917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61EAA-AFDE-4521-9421-D994F1D3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076C-48BF-4C4D-A071-A49B2A3E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DA95C-2BC3-4D1B-BD9F-B52DD23B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DA24B-FFFA-4359-A487-5713CCEB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F8AE6-481A-4CAA-BFAC-1475CE33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8A37F-61D8-4564-997A-8275706D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66172-8E49-4EDB-B09A-E79AF311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3108C-CEE1-4BEC-8C0B-387E7E23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92D77-49B0-4CF6-B035-00DDD59E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51EC6-2200-482A-8842-9EF215A8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795F7-B926-4D9B-8A6E-E5D32D64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1220F-F6D0-4F58-9741-7EF3940B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A1D8-7AAC-4E16-936F-10692A05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25D56-600B-455D-BBD6-0B9FCE38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9A443-9336-4AC8-80AD-E54DCBEA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50E75-95EF-4DF2-A51B-A8729AD8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DA1D2-9CF5-452E-93E6-FD65B82D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8C01C-9798-492B-A6EE-0AD68DFA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45C69-2A82-4557-B097-5D9EA63F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AA1FA-6E01-4D83-9816-08642236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AA3B6-FEB9-4828-B531-F54BE17A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EF0BE-3EFF-454F-9F4B-A73F4DE0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75C92-A970-4A72-A4CC-3F6EBA49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392E-BF47-41C8-8C54-46910362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9A462-EC8E-4920-862B-49859810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62F0F-1075-4E69-921B-C72330CB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F5AF2-4CD1-4BF0-A7F3-934330F5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DA064-C1EA-48E7-AE56-D3F19CFC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DD3A9-511E-457E-B474-B0E888D0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93CDB-1FD7-4CDC-A6DD-C313433D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BB87D-F889-456E-B17C-EB684A49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AAE9E-DB67-499B-B70A-18257DC6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5D371-E6EE-439B-B770-DFD48A0F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F3091-5482-4331-92CF-CEBE5570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F150-1721-485A-A167-B8440F6F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12524-93B4-42E6-B8E7-75ACF181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8D49E-6ADF-4855-A4B6-76ED55E8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24C98-D85B-4D0B-AC4D-ACD8CB82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F8BB8-118F-4B64-8719-AA45260D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BBFF3-C224-452A-8058-29BE1B76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A9248-FB77-41F0-AC8D-3065341D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89BF4-2326-4A67-B761-9B3FF762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54B20-4E05-4D4C-85F7-0B983313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1C686-7DFA-4936-93A3-09F14F02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1A23E-4C13-49EA-81B0-319EB72E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E04-7836-4E32-81F0-4B557685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4326B-3082-4784-AC18-F97ED734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4B8FB-B049-4F08-BEA4-D3EA6669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C57AE-FA5C-47A1-95B9-4CF9BE1E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F978B-ED2E-4C0A-9490-BA350861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DDC75-1423-4EED-B5F5-DEC3BF42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5B500-7F1E-409C-97A5-FF6264CA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3A401-90BD-4778-99AA-279EB664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4A8C4-37E5-4C28-9BD3-1842F004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7D1F7-218C-488E-861D-8A57A4DC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FC912-E4C6-4FE9-9288-1B3DFD1A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98CF-FE07-41D7-8028-1F5D95D4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45198-24D2-4838-BC1E-8225ECF9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8BED3-0C75-44EC-949E-546D3A57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F7AF9-5D8F-4B86-9FEA-E198327C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15E3E-A142-4FBA-B995-D0D76A80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31B5D-81B3-4ADA-A150-98936412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08413-C505-4F60-B1AC-70F5CB0A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31759-80DE-487F-809C-852164D1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643A6-D137-4F2F-B12F-EF1F97D0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1E1BF-E22B-465D-A0CE-4B337A58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026C7-5B37-48D4-98A8-4BAB658D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pct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E2D8-2B4D-40E8-A653-7EDA8BB1CF6D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dt" idx="28"/>
          </p:nvPr>
        </p:nvSpPr>
        <p:spPr>
          <a:xfrm>
            <a:off x="68580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38d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8d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ftr" idx="29"/>
          </p:nvPr>
        </p:nvSpPr>
        <p:spPr>
          <a:xfrm>
            <a:off x="2971440" y="64008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38d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8d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30"/>
          </p:nvPr>
        </p:nvSpPr>
        <p:spPr>
          <a:xfrm>
            <a:off x="6552720" y="6400800"/>
            <a:ext cx="1917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38d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F5D8-155A-42E6-ABBF-6826710F66E8}" type="slidenum">
              <a:rPr b="1" lang="en-US" sz="1400" spc="-1" strike="noStrike">
                <a:solidFill>
                  <a:srgbClr val="238d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title"/>
          </p:nvPr>
        </p:nvSpPr>
        <p:spPr>
          <a:xfrm>
            <a:off x="2361960" y="1828800"/>
            <a:ext cx="6095880" cy="96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3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8321-6991-4173-BC9F-C004776F8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10C1-4CAA-42FA-BE05-EFE5E6BD1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6CD5-DCEC-411A-94DD-97E27257C12C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8839080" y="6580080"/>
            <a:ext cx="304920" cy="27792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8DF4-9401-435E-B368-40F85846B421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D1C4-0EE6-41C3-A767-9DF6AC600B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1DCE-B230-4EE1-8F87-9AADC494E9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5320" y="1371240"/>
            <a:ext cx="6629400" cy="2057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CF26-F8A0-4602-8927-D87027D0E7DE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3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49D7-EE8F-4CBE-9F81-3AC113AB2C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E4CB-81F7-44A1-8A55-F5F629C5AE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77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02ED-045D-4CD0-B510-FD00C4E002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22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6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17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sldNum" idx="18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233A-692A-44BA-9A4B-AD1AB1B5FF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3933-FE5B-442F-AF47-2E194D69F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7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0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0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0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0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C825-9FFA-49E1-84BD-40A07311B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5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6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6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7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5"/>
          </p:nvPr>
        </p:nvSpPr>
        <p:spPr>
          <a:xfrm>
            <a:off x="685800" y="6400800"/>
            <a:ext cx="2225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6"/>
          </p:nvPr>
        </p:nvSpPr>
        <p:spPr>
          <a:xfrm>
            <a:off x="3009600" y="6400800"/>
            <a:ext cx="3390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7"/>
          </p:nvPr>
        </p:nvSpPr>
        <p:spPr>
          <a:xfrm>
            <a:off x="6552720" y="6400800"/>
            <a:ext cx="200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0A88-7826-4DBF-AEFE-B3DC43A4B0ED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2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2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61760" y="1904760"/>
            <a:ext cx="8001000" cy="2057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choolHouse Printed A"/>
              </a:rPr>
              <a:t>CONTEXT CLUES</a:t>
            </a:r>
            <a:endParaRPr b="0" lang="en-US" sz="10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nell Roundhand Black"/>
              </a:rPr>
              <a:t>The secret to mastering fill-in-the-blank questions!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LANG CONTEXT CL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5943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ick a slang flashcar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rite the word AND its definition at the top of your paper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rite a sentence for each type of context clue for your slang word.  Somehow identify the word in each sentence AND the signal word/phrase like I did in the sample sentenc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6400800" y="3505320"/>
            <a:ext cx="2279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oper Black"/>
              </a:rPr>
              <a:t>CONTRAS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Jamie wasn’t cool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r pool party wa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ff the ho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181480" y="1143000"/>
            <a:ext cx="762120" cy="609480"/>
          </a:xfrm>
          <a:prstGeom prst="rect">
            <a:avLst/>
          </a:prstGeom>
          <a:solidFill>
            <a:srgbClr val="eaff01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1752480" y="7621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622"/>
                </a:solidFill>
                <a:latin typeface="Cooper Black"/>
              </a:rPr>
              <a:t>GRAMMAR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120" y="35049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(1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as young me (2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y mama had bee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een years old kicked out (3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stree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ugh back at the time, I never thought I’d see her fa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n’t a (4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om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ive that could take my (5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ma’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la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pended from school; and scared to go home, I was a fo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i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(7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i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oys breaking all the ru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shed tears with my(8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a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s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9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years we were poorer that the other little ki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even though we had different daddy’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(10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ram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ings went wrong (11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amed mam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reminisce on the(12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caused, it was he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gging on my mama from a (13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j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4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ell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1752480" y="80640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622"/>
                </a:solidFill>
                <a:latin typeface="Cooper Black"/>
              </a:rPr>
              <a:t>GRAMMAR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1523880" y="1676520"/>
          <a:ext cx="8763120" cy="476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676520"/>
                    <a:ext cx="8763120" cy="47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219320" y="544680"/>
          <a:ext cx="6616440" cy="6161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544680"/>
                    <a:ext cx="661644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7" name=""/>
          <p:cNvGraphicFramePr/>
          <p:nvPr/>
        </p:nvGraphicFramePr>
        <p:xfrm>
          <a:off x="1295280" y="380880"/>
          <a:ext cx="6019920" cy="6324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80880"/>
                    <a:ext cx="601992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33"/>
                </a:solidFill>
                <a:latin typeface="Curlz MT"/>
              </a:rPr>
              <a:t>CONTEXT CLUES</a:t>
            </a:r>
            <a:endParaRPr b="0" lang="en-US" sz="60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162920" y="2286000"/>
            <a:ext cx="761760" cy="68580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I certainly appreciate your </a:t>
            </a:r>
            <a:r>
              <a:rPr b="0" lang="en-US" sz="3200" spc="-1" strike="noStrike" u="sng">
                <a:solidFill>
                  <a:srgbClr val="336699"/>
                </a:solidFill>
                <a:uFillTx/>
                <a:latin typeface="Arial"/>
              </a:rPr>
              <a:t>praise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but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I must say that I can see </a:t>
            </a:r>
            <a:r>
              <a:rPr b="0" lang="en-US" sz="3200" spc="-1" strike="noStrike" u="sng">
                <a:solidFill>
                  <a:srgbClr val="336699"/>
                </a:solidFill>
                <a:uFillTx/>
                <a:latin typeface="Arial"/>
              </a:rPr>
              <a:t>nothing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so remarkably </a:t>
            </a:r>
            <a:r>
              <a:rPr b="1" lang="en-US" sz="3200" spc="-1" strike="noStrike">
                <a:solidFill>
                  <a:srgbClr val="ec0b08"/>
                </a:solidFill>
                <a:latin typeface="Arial"/>
              </a:rPr>
              <a:t>meritorious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in having done what any </a:t>
            </a:r>
            <a:r>
              <a:rPr b="0" lang="en-US" sz="3200" spc="-1" strike="noStrike" u="sng">
                <a:solidFill>
                  <a:srgbClr val="336699"/>
                </a:solidFill>
                <a:uFillTx/>
                <a:latin typeface="Arial"/>
              </a:rPr>
              <a:t>decent person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would do.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33"/>
                </a:solidFill>
                <a:latin typeface="Curlz MT"/>
              </a:rPr>
              <a:t>CONTEXT CLUES</a:t>
            </a:r>
            <a:endParaRPr b="0" lang="en-US" sz="60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The only way to defeat the party in power is for all the reform groups to form a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coalition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 and back a single slate of candidates. 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Although we tried to express our sympathy, we knew that mere words could do nothing to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assuage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 her grief.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6633"/>
                </a:solidFill>
                <a:latin typeface="Curlz MT"/>
              </a:rPr>
              <a:t>CONTEXT CLUES: </a:t>
            </a:r>
            <a:br>
              <a:rPr sz="5500"/>
            </a:br>
            <a:r>
              <a:rPr b="1" lang="en-US" sz="5500" spc="-1" strike="noStrike">
                <a:solidFill>
                  <a:srgbClr val="336633"/>
                </a:solidFill>
                <a:latin typeface="Curlz MT"/>
              </a:rPr>
              <a:t>Restatement</a:t>
            </a:r>
            <a:endParaRPr b="0" lang="en-US" sz="55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That girl has way to much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bling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, or expensive jewelry, on her wrist!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You need to stop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tripping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, or in other words, flipping out!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I would not want to roll up at the club wearing that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janky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 outfit, or in other words, that tacky shirt.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638680" y="297180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553080" y="1981080"/>
            <a:ext cx="609840" cy="60984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066680" y="3429000"/>
            <a:ext cx="1219320" cy="60948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334120" y="4495680"/>
            <a:ext cx="3124080" cy="53352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6633"/>
                </a:solidFill>
                <a:latin typeface="Curlz MT"/>
              </a:rPr>
              <a:t>CONTEXT CLUES: </a:t>
            </a:r>
            <a:br>
              <a:rPr sz="5500"/>
            </a:br>
            <a:r>
              <a:rPr b="1" lang="en-US" sz="5500" spc="-1" strike="noStrike">
                <a:solidFill>
                  <a:srgbClr val="336633"/>
                </a:solidFill>
                <a:latin typeface="Curlz MT"/>
              </a:rPr>
              <a:t>Example</a:t>
            </a:r>
            <a:endParaRPr b="0" lang="en-US" sz="55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That car is so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ghetto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, for instance, the seats and mirrors are missing.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Students at school are such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biters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, especially the ones that don’t do their work.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Giving mad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props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 to peeps involves giving proper respect and praise. 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800600" y="190512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990720" y="3276720"/>
            <a:ext cx="1828800" cy="53316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867280" y="419112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aggadocio"/>
              </a:rPr>
              <a:t>DEFINITION &amp; RESTAT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990720" y="3886200"/>
            <a:ext cx="7391160" cy="266688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371600" y="4419360"/>
            <a:ext cx="320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724280" y="4419720"/>
            <a:ext cx="3200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nown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8580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space shuttles to the moon will need to be timed so that the trips occur when the moon is in </a:t>
            </a:r>
            <a:r>
              <a:rPr b="1" lang="en-US" sz="2400" spc="-1" strike="noStrike" u="sng">
                <a:solidFill>
                  <a:srgbClr val="1d02cf"/>
                </a:solidFill>
                <a:uFillTx/>
                <a:latin typeface="Arial"/>
              </a:rPr>
              <a:t>perig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stage of orbit when it is closest to the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415320" y="3352680"/>
            <a:ext cx="25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aggadocio"/>
              </a:rPr>
              <a:t>Signal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6633"/>
                </a:solidFill>
                <a:latin typeface="Curlz MT"/>
              </a:rPr>
              <a:t>CONTEXT CLUES: </a:t>
            </a:r>
            <a:br>
              <a:rPr sz="5500"/>
            </a:br>
            <a:r>
              <a:rPr b="1" lang="en-US" sz="5500" spc="-1" strike="noStrike">
                <a:solidFill>
                  <a:srgbClr val="336633"/>
                </a:solidFill>
                <a:latin typeface="Curlz MT"/>
              </a:rPr>
              <a:t>Comparison</a:t>
            </a:r>
            <a:endParaRPr b="0" lang="en-US" sz="55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Although she had a sweet voice, her words were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cold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Allen Iverson is a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sick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 basketball player resembling Michael Jordan.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My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dawgs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 and I are tight. For instance, we help each other out when we’re feeling down.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90720" y="1981080"/>
            <a:ext cx="1676160" cy="45720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914400" y="3352680"/>
            <a:ext cx="2133720" cy="45720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486400" y="3733920"/>
            <a:ext cx="2286000" cy="53316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6633"/>
                </a:solidFill>
                <a:latin typeface="Curlz MT"/>
              </a:rPr>
              <a:t>CONTEXT CLUES: </a:t>
            </a:r>
            <a:br>
              <a:rPr sz="5500"/>
            </a:br>
            <a:r>
              <a:rPr b="1" lang="en-US" sz="5500" spc="-1" strike="noStrike">
                <a:solidFill>
                  <a:srgbClr val="336633"/>
                </a:solidFill>
                <a:latin typeface="Curlz MT"/>
              </a:rPr>
              <a:t>Contrast</a:t>
            </a:r>
            <a:endParaRPr b="0" lang="en-US" sz="55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My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crib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 needs to be cleaned, unlike that sparkling house!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Although she had a sweet voice, her words were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cold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She didn’t want me to call her, but I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holla’d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 at her anyway.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172200" y="1981080"/>
            <a:ext cx="1143000" cy="60984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066680" y="2971800"/>
            <a:ext cx="1600200" cy="60948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248520" y="3962520"/>
            <a:ext cx="685800" cy="60948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6633"/>
                </a:solidFill>
                <a:latin typeface="Curlz MT"/>
              </a:rPr>
              <a:t>CONTEXT CLUES: </a:t>
            </a:r>
            <a:br>
              <a:rPr sz="5500"/>
            </a:br>
            <a:r>
              <a:rPr b="1" lang="en-US" sz="5500" spc="-1" strike="noStrike">
                <a:solidFill>
                  <a:srgbClr val="336633"/>
                </a:solidFill>
                <a:latin typeface="Curlz MT"/>
              </a:rPr>
              <a:t>Cause &amp; Effect</a:t>
            </a:r>
            <a:endParaRPr b="0" lang="en-US" sz="55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f a boy has a girl and flirts with another girl on the D.L., then he would be considered a </a:t>
            </a:r>
            <a:r>
              <a:rPr b="1" lang="en-US" sz="2800" spc="-1" strike="noStrike">
                <a:solidFill>
                  <a:srgbClr val="ec0b08"/>
                </a:solidFill>
                <a:latin typeface="Arial"/>
              </a:rPr>
              <a:t>playa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e has a big house and hot tub, so  hanging out with her was </a:t>
            </a:r>
            <a:r>
              <a:rPr b="1" lang="en-US" sz="2800" spc="-1" strike="noStrike">
                <a:solidFill>
                  <a:srgbClr val="ec0b08"/>
                </a:solidFill>
                <a:latin typeface="Arial"/>
              </a:rPr>
              <a:t>off the hook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nce the two kids when to the club looking like giant </a:t>
            </a:r>
            <a:r>
              <a:rPr b="1" lang="en-US" sz="2800" spc="-1" strike="noStrike">
                <a:solidFill>
                  <a:srgbClr val="ec0b08"/>
                </a:solidFill>
                <a:latin typeface="Arial"/>
              </a:rPr>
              <a:t>tools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in their tye-dyes and sweats, none of the girls wanted to chill with them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990720" y="198108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971800" y="236232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324480" y="3200400"/>
            <a:ext cx="609840" cy="45720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66680" y="411480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3962520" y="1600200"/>
            <a:ext cx="1218960" cy="7621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ait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aggadocio"/>
              </a:rPr>
              <a:t>EXA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33520" y="3886200"/>
            <a:ext cx="8001000" cy="266688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62120" y="426708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434340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k of an </a:t>
            </a:r>
            <a:r>
              <a:rPr b="1" lang="en-US" sz="2400" spc="-1" strike="noStrike" u="sng">
                <a:solidFill>
                  <a:srgbClr val="1d02cf"/>
                </a:solidFill>
                <a:uFillTx/>
                <a:latin typeface="Arial"/>
              </a:rPr>
              <a:t>argonom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s the selective breeding of crop plants and the development of methods to preserve 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415320" y="3352680"/>
            <a:ext cx="25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aggadocio"/>
              </a:rPr>
              <a:t>Signal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38680" y="434340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se inclu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aggadocio"/>
              </a:rPr>
              <a:t>COMPARI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57200" y="3886200"/>
            <a:ext cx="8381880" cy="266688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124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the same w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581280" y="434340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mb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w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</a:t>
            </a:r>
            <a:r>
              <a:rPr b="1" lang="en-US" sz="2400" spc="-1" strike="noStrike" u="sng">
                <a:solidFill>
                  <a:srgbClr val="1d02cf"/>
                </a:solidFill>
                <a:uFillTx/>
                <a:latin typeface="Arial"/>
              </a:rPr>
              <a:t>pench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unnecessary explanations, like her fondness for big words, either annoyed or amused her aud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415320" y="3352680"/>
            <a:ext cx="25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aggadocio"/>
              </a:rPr>
              <a:t>Signal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434340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aggadocio"/>
              </a:rPr>
              <a:t>CONTR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57200" y="3886200"/>
            <a:ext cx="8305920" cy="266688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 the contra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 the other h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581280" y="4267080"/>
            <a:ext cx="3200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ntrast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85800" y="1600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1d02cf"/>
                </a:solidFill>
                <a:uFillTx/>
                <a:latin typeface="Arial"/>
              </a:rPr>
              <a:t>intrep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ild, unlike her more fearful playmates, never doubted her ability to climb to the top of the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415320" y="3352680"/>
            <a:ext cx="25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aggadocio"/>
              </a:rPr>
              <a:t>Signal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4267080"/>
            <a:ext cx="3200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imi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aggadocio"/>
              </a:rPr>
              <a:t>CAUSE &amp; EFF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990720" y="3886200"/>
            <a:ext cx="7391160" cy="266688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371600" y="4419360"/>
            <a:ext cx="320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qu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419720" y="4419720"/>
            <a:ext cx="35049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f-then” stat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09480" y="1631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both sides involved in the labor dispute were </a:t>
            </a:r>
            <a:r>
              <a:rPr b="1" lang="en-US" sz="2400" spc="-1" strike="noStrike" u="sng">
                <a:solidFill>
                  <a:srgbClr val="1d02cf"/>
                </a:solidFill>
                <a:uFillTx/>
                <a:latin typeface="Arial"/>
              </a:rPr>
              <a:t>intransig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ir contract demands, a federal mediator had to be brought in to help reach an agre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415320" y="3352680"/>
            <a:ext cx="25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aggadocio"/>
              </a:rPr>
              <a:t>Signal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OP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EFINITION: (n) an old, beaten-up,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lapidated ca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4724280" y="3313080"/>
            <a:ext cx="355608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OP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FINITION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s is so much better than rolling in your </a:t>
            </a:r>
            <a:r>
              <a:rPr b="1" lang="en-US" sz="2200" spc="-1" strike="noStrike">
                <a:solidFill>
                  <a:srgbClr val="eaff01"/>
                </a:solidFill>
                <a:latin typeface="Arial"/>
              </a:rPr>
              <a:t>HOOPT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     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in other word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your </a:t>
            </a:r>
            <a:r>
              <a:rPr b="0" lang="en-US" sz="2200" spc="-1" strike="noStrike">
                <a:solidFill>
                  <a:srgbClr val="eaff01"/>
                </a:solidFill>
                <a:latin typeface="Arial"/>
              </a:rPr>
              <a:t>old beat-up station wago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din’ in your </a:t>
            </a:r>
            <a:r>
              <a:rPr b="1" lang="en-US" sz="2200" spc="-1" strike="noStrike">
                <a:solidFill>
                  <a:srgbClr val="eaff01"/>
                </a:solidFill>
                <a:latin typeface="Arial"/>
              </a:rPr>
              <a:t>HOOPT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lik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riding in one of those </a:t>
            </a:r>
            <a:r>
              <a:rPr b="0" lang="en-US" sz="2200" spc="-1" strike="noStrike">
                <a:solidFill>
                  <a:srgbClr val="eaff01"/>
                </a:solidFill>
                <a:latin typeface="Arial"/>
              </a:rPr>
              <a:t>cars on “Pimp My Ride” before they fix them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OP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OMPARISON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1" lang="en-US" sz="2000" spc="-1" strike="noStrike">
                <a:solidFill>
                  <a:srgbClr val="eaff01"/>
                </a:solidFill>
                <a:latin typeface="Arial"/>
              </a:rPr>
              <a:t>HOOP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imil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that beater car your uncle driv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ONTRAST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1" lang="en-US" sz="2000" spc="-1" strike="noStrike">
                <a:solidFill>
                  <a:srgbClr val="eaff01"/>
                </a:solidFill>
                <a:latin typeface="Arial"/>
              </a:rPr>
              <a:t>HOOP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a piece of junk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eaff01"/>
                </a:solidFill>
                <a:latin typeface="Arial"/>
              </a:rPr>
              <a:t>hot Aston Marti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there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AUSE &amp; EFFEC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i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you got in that </a:t>
            </a:r>
            <a:r>
              <a:rPr b="0" lang="en-US" sz="2000" spc="-1" strike="noStrike">
                <a:solidFill>
                  <a:srgbClr val="eaff01"/>
                </a:solidFill>
                <a:latin typeface="Arial"/>
              </a:rPr>
              <a:t>accid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ff01"/>
                </a:solidFill>
                <a:latin typeface="Arial"/>
              </a:rPr>
              <a:t>and let your brother spray paint the rust spo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you car looks like a </a:t>
            </a:r>
            <a:r>
              <a:rPr b="1" lang="en-US" sz="2000" spc="-1" strike="noStrike">
                <a:solidFill>
                  <a:srgbClr val="eaff01"/>
                </a:solidFill>
                <a:latin typeface="Arial"/>
              </a:rPr>
              <a:t>HOO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6:57:56Z</dcterms:created>
  <dc:creator>PSD</dc:creator>
  <dc:description/>
  <dc:language>en-US</dc:language>
  <cp:lastModifiedBy>PSD</cp:lastModifiedBy>
  <dcterms:modified xsi:type="dcterms:W3CDTF">2009-09-28T20:49:36Z</dcterms:modified>
  <cp:revision>14</cp:revision>
  <dc:subject/>
  <dc:title>CONTEXT CLUES</dc:title>
</cp:coreProperties>
</file>